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BE62B-0DFE-4C63-9080-995380CA4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45B2E-2985-4C59-AF1F-CE17FE42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DB8D2-68F0-44A3-806A-1265C8414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E0AD9-0880-4470-BC57-49BFB2356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7105-314C-46C7-8817-A67DA0B99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7A04-3D44-4E70-838A-A99663F4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E1BC-CF92-4FCB-85AD-65B8F72E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0F0B-7AC3-41E9-AACE-9BB28E7D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2F0C-FF4E-460D-8393-F32C3067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3387-9119-4BA3-8357-3B8A4BE1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A6C8-BEB6-478A-B062-E54F3D78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D2478-DD54-4EA1-BDBD-0901D661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27E9-5C5A-4D79-B3BF-F581D350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D125-6461-427C-9EE1-6B52F53F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50B4-0867-4F56-8811-F8518DAC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4877-D440-4617-AA3B-ACE247D13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52F7-ED8E-4FDD-8806-97335FCE7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E6BAF-1638-45DD-AD6C-A3A0E67C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986CC-1B01-4EC9-9EA0-C07537E1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F759D-89F9-4E05-BBC3-1F8B4FC7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98B48-F5BC-4865-9EB7-9C79B3B4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E7879-5A43-451D-A758-58FADDDD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87A8A-C019-42BF-955B-4DA20460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092A2-C8C5-4265-8232-B6B0F6CE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1CD6-15E3-4E06-B090-84E7E22852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3729-BA92-4772-B61F-420868A7A3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omtel.cz/cz/?s=vyuka&amp;l=pred_detail&amp;kod=106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68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00000"/>
                </a:solidFill>
                <a:latin typeface="Arial"/>
              </a:rPr>
              <a:t>Multiplexní metod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16000" y="2205000"/>
            <a:ext cx="48956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Arial"/>
              </a:rPr>
              <a:t>X32TSS - Telekomunikační systémy a sítě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Seminární projek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Vypracovali: Zuzana Kút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Petr Votav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6.semestr 2005/200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DM- Wave Division multiplex 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ívá posunutých vlnových dél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nosové médium- optické vlák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y W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WDM (Density WDM)- rozestupy mezi kanály jednotky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WDM (Coarse WDM)- rozestupy mezi signály desítky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timalizace přenosové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lepší využití přenosových cest pracujeme s digitalizovaným a sdruženým signálem. Hovoříme o TDM+WD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5B438-85B3-466C-AE26-A563F0FF24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DM- Wave Division multiplex 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silovače signá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ektron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žitější zaříze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utnost převodu optického signálu na elektrický, oprava časování a tvar, převod zpět na optický sign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DFA (Erbium Doped Fiber Amplifier)- zesilovač na optické bázi (stimulovaná emis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→zesílení světelného tok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hoda: při 32 kanálovém provozu potřebujeme pouze 9 EDFA zesilovačů (1000 Km) oproti 288 elekronickým zesilovačů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18868-B86E-428F-B8B7-05A93A46BE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oucnost       optická vedení      W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ysoká přenosová rych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lehlivost a kvalita přeno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132000" y="4076640"/>
            <a:ext cx="2286000" cy="1600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627280" y="206064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76720" y="2060640"/>
            <a:ext cx="433440" cy="287280"/>
          </a:xfrm>
          <a:prstGeom prst="rightArrow">
            <a:avLst>
              <a:gd name="adj1" fmla="val 50000"/>
              <a:gd name="adj2" fmla="val 37719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1E778-2CFE-42BB-9721-4A7A7C09EA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droje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ni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voboda, J., a spol. : Telekomunikační technika II. díl, Přenos dat, spojovací a přenosové systémy, Odborné nakladatelství 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ti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Beneš, Praha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mtel : 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comtel.cz/cz/?s=vyuka&amp;l=pred_detail&amp;kod=106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19DA3-BC52-417A-970A-E072A529E0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rozdělení multiplex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DM – Frequency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ncip frekvenčního multiplex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- drátový stejnopásmový (různopásmový) prov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DM- Tim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ncip časového multiplex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DM- Cod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DM- Wav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03913-955D-4F57-9EB1-E5218EBE7E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ladní rozdělení multiplex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voj telekomunikačních služeb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→ zvyšování kapacity přenosových kaná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Možnosti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měna starých kabelů za nové s více žilami → neekonom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ultiplex = lepší využití stávajících přenosových c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y multiplex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vodov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rekvenční (F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vý (T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ódový (C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nový (W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CBE41-34B1-4273-ADAD-AA69D17583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DM – Frequency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ívá frekvenčně posunutých hovorových pásem (AM modul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ířka hovorového pásma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f = 31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dstupy pásem 900 Hz → šířka přenášeného pásma 40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bsazení frekvenčního pá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nalogie s radiovým signá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užití stíněných vodičů → na všech mohou být stejné frekv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spořádání přenosové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- drátové stejnopásm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- drátové různopásm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- drátov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B39C5-E33B-47ED-91CA-515F754CD1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 frekvenčního multiplex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01760" y="1341360"/>
            <a:ext cx="4821480" cy="525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5A82A-B2BD-4521-BC1D-F5EF871EF8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- drátový stejnopásmový (různopásmový) provo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987640" y="3716280"/>
            <a:ext cx="5905440" cy="2360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16000" y="220500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436572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24360" y="342900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04000" y="4437000"/>
            <a:ext cx="115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5472000" cy="474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0E856-77C8-4265-80CE-858EDD5CE8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DM- Time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vé dělení kanál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→každý signál má přidělen určitý časový úsek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Úseku přiřadíme jeho okamžitou hodnotu v určitém čase (vzorková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zorkovací frekv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usí splňovat Shannon- Kotělnikovův teor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v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≥ 2*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o telefonní signál je 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= 80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CM 1.řá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praxi se TDM kombinuje s digitalizací signálu, tomu odpovídá PCM 1.řá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CB059-3419-4235-BDE1-5A96B17DB8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 časového multiplex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71640" y="1413000"/>
          <a:ext cx="220320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13000"/>
                    <a:ext cx="220320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284720" y="2349360"/>
            <a:ext cx="4038480" cy="2810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76720" y="4797360"/>
            <a:ext cx="19447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ynchroniz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02880" y="263700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02880" y="306864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02880" y="3573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02880" y="4005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63960" y="263700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63960" y="306864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63960" y="3573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63960" y="4005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33040" y="1989000"/>
            <a:ext cx="1717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M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7960" y="1989000"/>
            <a:ext cx="1552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3AAB3-AA67-4334-A56C-28D24BE64C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DM- Code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ílčí přenosy jso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"zakódovány" do jediného sp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č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ého 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osu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ždý účastník si z tohoto celk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kódu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co mu 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ísluší, pomocí kódu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ždý z přenášených signálů používá jiný kód (pseudonásobnou sekvenc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hoda -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ysoká efektivnost vy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í dostupného frekvenčního pásma</a:t>
            </a:r>
            <a:r>
              <a:rPr b="1" i="1" lang="cs-CZ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C2844-CA00-4A8E-8CF0-9ADA64466C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7:44:08Z</dcterms:created>
  <dc:creator>petr</dc:creator>
  <dc:description/>
  <dc:language>en-US</dc:language>
  <cp:lastModifiedBy>student</cp:lastModifiedBy>
  <dcterms:modified xsi:type="dcterms:W3CDTF">2006-05-23T11:52:58Z</dcterms:modified>
  <cp:revision>34</cp:revision>
  <dc:subject/>
  <dc:title>Multiplexní metody</dc:title>
</cp:coreProperties>
</file>